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BA87-065D-46B5-82DC-39D45F3C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2A9B-95E6-4E19-8ED1-80296942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5EFE1-DAB0-46D2-8599-B9BF00A4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32BC1-8931-47E1-B172-29A1CAE3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7FAF1-FC44-4456-87DC-7CAF348D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6CAB4-DBAE-40AD-B954-0E89D0CC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6DE76-39D2-4826-8E9D-FDB7B946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13640-5431-4CC8-94CE-D1278272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CE3EA-B68B-4D3E-BB0A-E496CA3F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BCE0E-3E57-4640-BADA-7069BE37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5B795-8A03-46BC-9C29-D4BEDF5E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D84DD-8F5D-4D8B-85F4-7811CF21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3EB8-9114-41F8-8AC4-E0EC2FF0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990B1-8FC0-4939-8907-BEBB0A20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E5F3E-176C-4700-840C-42C970DB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951E8-6035-4780-A5C5-28B0BF9D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73653-C0B1-42D4-8C25-E4149CA0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4EB13-5C2B-492C-8A4B-B1342908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76FDB-AA80-4A4C-83C9-3F13E6A6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E3153-06A5-4A52-AC9F-4145BA55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3F179-2877-4BDA-83FE-063F70AE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FEA3E-10C3-4D04-A820-C4D09813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476B2-C4A2-4708-B866-B9CB5B75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9614-E30D-4C9E-8679-65F59239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CA746-0C70-4FCE-AAD8-30706F56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BEEB0-9A08-4B12-AEBF-19A31471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C714C-8D22-495D-AD91-C0AA795C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66EED-11D5-4C82-9DCE-E0F4965C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1C00F-93AD-45A6-86B9-D73E1C9A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8B775-9D46-417E-8965-3576C5C8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098EF-B96F-44FE-83DE-A870CF04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23AE6-1F05-488E-B336-21CDE78D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3895D-75C5-4668-A461-4C1089EE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72812-DA40-4DCA-8F7E-87DB2848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C358-2A09-4833-94B3-83FC5614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DAF12-68A7-4C6C-B0FE-3025E212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42E8E-DB79-4AE0-AED9-46F0F506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238FD-3D3B-416D-9BB7-435CAD5D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C0086-3850-472B-AC55-FDF17A22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8486E-751B-449A-BF6D-A363D180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31F01-A734-4ED5-8293-B130AEBA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2A8FC-7DC6-4B22-A350-CA3F9156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1008A-B04F-4134-813F-1D8CD1D2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9CEE5-A401-411D-A720-CDFFB883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D6AC1-C38A-4EF7-A35B-9A47EE29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5EE4-F535-4EFA-BDC3-BEE319ED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1682B-AF1B-4131-91D7-22C74CCA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07DEE-0C10-49CB-A5BB-8922450F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F5B28-0AA1-4BF5-89E9-C27EBACB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6161F-9061-4A75-8EA9-6F437A8C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E028C-D970-4A2F-A2DA-3E1F50D8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AD3F1B-4CA8-4622-9FBE-BC9FCC5A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395F76-BE1C-4FE2-86BD-7DA544C7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654942-4F5B-44A4-9613-38FEF0C5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6FF6A6-C81C-4726-9CCE-AE182C8F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B11D7A-B37F-4CEF-A266-8C70A0FC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7301-740B-4CA4-A1C6-6BA95C3F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77DCF-5C24-4764-B285-1D2A4745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57B326-C064-4B07-ACAB-F534062C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EE6DE2-C2FE-49FF-95A6-DCE21D68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F4A23B-C9EF-4B31-A76B-49948AE3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E2D7FB-6B43-425D-A967-0F5B1A76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E42658-6034-48F8-81DF-836C19AA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FC9ADE-512E-463C-BB6F-09D35FCA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BB9D4F-1741-4DAC-A1D5-0695BB18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A44CC8-BFBF-41D9-AA72-B8176ED8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E93843-16BB-4571-9F2B-BA762A35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B7D0-79E6-4096-9B40-D07A1FE0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F9BC7C-8606-48D4-B90E-55943619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17207A-8CFA-4B94-AF38-4B7072B2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9CB01A-6EFE-4D48-9E5F-A03D273A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DAFA51-4220-4549-8245-D44132C1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667F2C-5F65-4E94-8C9D-9A1579C8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6607AB-5094-4C8E-82F0-6278BB88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7606FB-98ED-4BF5-B881-AE1A918C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96D2BE-F758-4157-9694-95A024DF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598CC1-119C-474B-A33F-9167B2B3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E13384-6114-483E-86E2-617EA4FB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1E14-0712-4E34-87D1-131416F3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5BD7F1-1C48-473F-8C92-F86AD4A3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3E0BB4-2123-4898-B176-ABB810F6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403E87-3D33-4351-B0C8-43E0091B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C8CDDA-DE59-4962-9602-5087FB05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C69FD3-039B-4A01-BFDB-761199E6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99431F-6D45-40F0-9D3B-ED32A037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0D6C78-5A2F-4C04-B1EF-8C4D6C61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61ED77-07D7-44DE-96D2-40DA64DC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9B4AB2-1B25-455E-8AC0-1C76CE25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614713-2E09-4692-800D-054A0D6C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89DF-A65D-4151-A921-9C9637A1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F355C3-5C75-40A5-8702-2C9E5B63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DAAD11-EEF9-4425-810E-6276E8BF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B826FF-7DBB-42B7-B876-EB5D0F2D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3F2339-34AE-473B-8DC9-B1A72625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417BBF-B017-4692-A489-025C8D7B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098A38-E0C0-47CF-8090-C7630563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8AF95E-9C40-4746-859F-1AC12A4B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27A22E-0292-4F31-834D-E9301359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BC3845-A3ED-4B98-84BA-60D12E91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D76BB4-7039-42BB-856C-29C4C38B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EEB3-C6D2-428B-9987-C049093B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C00523-1A76-49C8-A189-4DA6F8DA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69C690-A3B7-4B1F-8ECE-AA79D6C0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77D22E-E0AE-4523-92F2-301D6B71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2DB7C2-4E62-407B-9EF4-B57B53C0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BA75CA-E85D-4CB9-88BD-378C45B1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84F280-27CA-4D7C-9958-A05A935C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9291D7-7A25-4C5F-9FFF-FDEEF4A9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F68B0E-2D56-4AD9-9A07-04616A9F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F57E4E-77B7-4D3A-BF35-D1D3ACE5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9203F3-56FB-43C4-9CA9-EE2CE270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8EA7-A4FC-486E-9211-8318B37C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A3DB-659A-4D30-884F-E7C00A95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E835F9-9832-47E9-98EE-57439A50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380634-41C7-4706-8E2E-9BB6DC49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702D66-8A10-40F3-BAEF-C297669D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A1D5B2-9AF4-4340-8DAE-CD160AFE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673870-B417-48A1-B511-08826B21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628A4A-CB96-4D72-A788-50E72AFD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B6A2A9-3900-4A8A-9934-95AD14AB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BD0129-2E94-49E2-90DB-A9DB8F61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42B0BE-7878-45FD-B464-A75FDAE3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7B16B2-EAAF-4FD7-8AD1-ADEF2085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F24F-C872-4DB3-AF15-BB0198EE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AFFAEA-47B4-4B43-BEDC-E09C204E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04974F-71A2-4579-840E-815EEB85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717372-E73F-4F86-B469-8CEC2C4C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84C0D1-BE15-4A18-B95F-7451CE4C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CB5DA0-50B1-42A0-9838-C3DD1394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75CB94-015D-497F-AB7C-95E7DC29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1F04D9-F723-482B-9DC6-71F8EAD1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381DE2-C1CC-46D9-971B-10C82B3F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D3A115-25FC-48F3-9E67-881DF461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F742E8-2788-41E8-BEC8-415587E0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E684-FC14-4EC1-B8EF-43FC80AB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AF86DD-72A7-4179-9470-CC47671E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8F88D8-872F-4378-9625-25AD4725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EA7484-2334-4672-9FB1-B064F35D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153861-FE8E-4E6F-A3B1-C46B1AEF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7FC56C-7622-4717-8768-D15ED13B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6BD8EF-7E3C-407E-8507-92AAB033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FE618A-B243-4DB3-8C41-51E8349B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A42BE9-72FE-4D8F-A851-A9EBB6E5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C95293-7D8A-471C-B824-08910DCA4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081B38-9FC9-4888-A2B5-D3A8A9EC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91F3-7316-434F-A621-F1C02F02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F0E0D4-2477-431A-AB1C-2CAADE8C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57CF90-191B-41B5-82DF-100FF969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1F8AE8-27FA-4AF1-B60A-C52838A1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485B2D-A3EC-4A92-AC42-230356C0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946A0C-93DC-4DF1-B9C1-D1293411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952475-0469-42AD-9345-16BE84AC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D77867-70A6-4D34-9361-AF3B77B4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E1CB71-2A17-475D-A4CC-CB43445B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199730-F98C-41E9-AC3D-4C3B4780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6E3F30-9CD5-4550-87BE-9DF61E87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2A83-4A89-436C-8DBD-9F6856B5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13B956-BDD3-460A-97D6-4CB21A5F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DC9BA6-CBC2-45FD-B6DE-C1CAAF2D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CB4B07-5BCF-428A-BE6A-24CE175F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A3D283-55A3-44D5-85C3-BEAA3C1A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865EE2-6213-48F0-8644-D11C402F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FFCCCE-2A16-4CE5-8B19-F911A934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83AF6B-5253-43F5-8812-08477396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E3BEFB-34AC-4300-89D6-2E8711FB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7F4CCE-20D3-47EF-B24F-540E20DB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18B37A-9A96-4055-9733-21CBD89D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81411-A0FD-4BC3-921F-69BEA2C5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4C7CE3-95D3-41B7-8EF0-AAF33DC2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58B1AF-1207-4573-99A6-EF151C85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AF4740-7A1F-40D7-8D3C-A0C64C36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A9D8A-B586-4E4D-9A23-2636E9E8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512B8-4A23-4F64-ADBE-634DE3BC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4C2CD-7B21-421A-BE69-EB254184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3973D-FD82-43CD-8B89-4894E7A5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2383-2089-49D4-A0B8-3CC39ADF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ADE81-D4A6-438F-9F3C-F84781CD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A9217-1EEF-473C-99D7-C11FDFAA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60058-C4F3-4849-ABC1-1D510E77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D8DBB-F0C8-434D-A26A-6F11BA5D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9A0C0-FAD5-4412-8EDE-CAF46C13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87AB6-E9C5-483D-975D-62DBCA4C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40BD4-D119-4084-86C4-D637151A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39773-CEF3-4285-B870-954C473F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8FDF7-BB47-4ED3-975B-23921F48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1B08B-811A-41B1-B9E6-08262568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12B6-16B0-47EC-AFE8-CB5F2348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0911D-E390-4230-9972-B1BB9337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D9A0F-DAD0-4699-A8D6-D889C5D3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BA74F-F460-4C39-8AFA-902A4C2C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72EF8-BE70-4EAD-B86D-07AEA302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A6697-2D7F-402B-8000-100C7B31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1E86A-5A83-4807-8F2D-11DA06A4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CB351-81BE-40F4-8FCF-10D15AE4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691EC-EC83-4F0C-B5B7-F74A1667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039A3-9920-4E2E-99C8-ABDE11BD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026BC-FC15-4180-BD43-CA338879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6976-673B-44A0-8BD9-4E2F0656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4496D-5BA1-45F0-8D13-1155DF1A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25FB0-6265-4CDC-803D-EAD1D7AA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157B9-4BA5-489D-BDF6-B99350B8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AD4B7-E660-4C76-867B-529EE383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3430B-97F7-4521-94E8-913AA867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86636-3D54-4C16-9C3C-3CDAD399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36757-9AB7-4CD1-B51A-49DD9BAC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07340-690A-4DB1-88D5-4F3BC293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B18FB-3C98-4ADA-ABF5-03B1DEAB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7A60F-EAC0-4F58-9115-589EF8A6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4AD8-FED6-481E-B436-16D51190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046CA-4837-497D-ACBF-8A50FFD0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0B089-58E3-4AE3-A92B-D889742A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93EA9-C089-423F-A0E8-3A96CAC8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E0697-378C-4EB7-B92C-2101C90E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9A954-966F-4ACF-9A08-34931A9F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A676C-D2C6-423A-BC3C-217429AB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1962B-6B8C-45AC-ADB4-A28E3547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D2D29-2B83-49B8-B887-9EBD408D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3C605-7271-48C3-A774-9663C4B2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96CB5-694F-4F9D-9EE4-ED3A23BA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6CD1-B8CD-4A02-B210-23ECC22A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C244C-BB78-4C5B-8316-26F3C7A7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41F95-B526-4FA5-90CC-FA59D113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3C205-33D7-4FDC-8249-27335F1A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76F63-BCDE-4E3E-AEAB-01C86E00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E6253-2AEC-4923-AEFD-0D2C1454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48D22-FABB-44EC-8965-90265780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3AC2E-8102-40BC-9EB5-82700DAB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699D8-70CD-43BA-AE6D-304DB737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17372-5BBB-4D27-96BB-F3B466F0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88043-AF90-46CA-A028-2620DB8B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DFE4-77F7-43B9-A0A1-8834A36F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08732-EC7A-49CB-8FA8-40F90DBD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226EA-21DF-485F-A622-EBBA5E2B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2DD73-84B7-4376-ABED-6D5D5064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0922A-7D3D-4C77-85F5-64977D57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705AA-CEF8-42C9-9AFF-AD5A3A1E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2352C-5ABB-41EC-AECB-BCCA7AAE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2AD14-4E90-4B61-9CDC-869A027A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00E26-6E87-456A-B884-DDAA6B03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05A35-B887-4C6E-850C-65C868E2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2A4BD-403C-490B-825C-E0FBBE09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258E-4308-4D9F-8C06-7434A249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9D73A-46AF-440E-BF4A-29098F1B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126C0-9AA1-43D5-81CA-B3572F00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BD158-419F-4E65-A3E3-F11AC9F0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A0CC8-9331-4269-9B14-97C572C2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D0C81-9510-450D-B3DA-4D7F31CE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7D974-90DF-469C-A3AE-E58F50F5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B5E97-4971-4152-B73B-A172014A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CBB8C-6251-4D59-B8AA-AD9CB681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2040B-2721-4863-9C80-9667A8FE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1F7A3-7F6C-4744-B7BE-AC521A70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8A1F-A63F-4E3C-9F92-71A28FBC6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892E-2CD3-4688-A1B0-8D1C739EFA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3F62-4B8F-4CD4-9136-FE64DBDDE9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6D33-876F-46F7-8595-A4107E10C8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4C40-8003-4A3B-A005-2FA14B82FD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BDFD-47C2-44B4-B45A-CD614A7160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37A3-EB38-4D0B-A22C-E10E991182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7A53-DD39-4A52-94A9-55766FD38F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5304-135E-4C5C-8BFA-ADC8B5BF3A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4142-4F33-4696-96AF-A0FEC57570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F4E7-89FB-494D-B5E5-62EE7FFF1E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3E69-F2C9-4395-B58D-F1D1873211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9645-676A-49E1-B45E-6BA9C81748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147D-4EE5-4235-9AAD-548AB381DE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C1C6-C7FB-4CC2-881A-E3FA8DCBE8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0C38-5E9B-48C8-B262-4D7A628A00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33D6-1D9E-4A90-A5E6-DB8536E345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8560-DA15-45AD-9858-F3E7E593B4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8B4A-0AD6-46B8-B1CC-F4508A7F64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2A60-ABCA-4BAB-8E13-538CB5E2F7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C52C-0B8A-4895-8E78-D16645317F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6BFE-DB5C-4AF5-AAAE-3362A51853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5180-6A02-402F-B971-B85598BA7D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F0B2-8FC1-4EB3-BC58-E373E786A1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3EFB-34E8-4492-A513-62670B29DB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7CB2-59CF-4FDF-A050-92C7355978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B8F0-4B90-440E-B98A-584E8093EF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806F-C170-4F07-993E-8EFD075BA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3A66-44A3-4BD6-BB6B-FFE4900808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3146-87C1-469D-A256-E08DE8518A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BE84-E7AF-463E-BB03-A2FFEB489A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BFBC-20A7-4F5F-87B1-8F36AFC60C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4FFD-3EE9-40FC-873B-3911DDC1D1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C69B-44F2-49EB-AE84-63993B47D5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777D-DB6F-40A8-A787-BE7280CA0D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0685-5212-43E0-9CB8-51090D41F6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6733-41F4-460C-BE45-7A7ACAA4F1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D25B-DFC4-4C7E-A6AE-242052A739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8BDC-00A1-40FB-8D19-B5A20BE3ED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6462-440A-40DB-9E33-942740D5B9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23840" y="3086280"/>
            <a:ext cx="88963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361800" y="1380960"/>
            <a:ext cx="8420400" cy="40960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403280" y="22766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403280" y="350028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332000" y="472428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101520" y="830160"/>
            <a:ext cx="8942400" cy="54849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971640" y="2924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1042920" y="39337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1042920" y="537372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333360" y="1262160"/>
            <a:ext cx="8477280" cy="43336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3276720" y="45957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7596360" y="459576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图片 1" descr=""/>
          <p:cNvPicPr/>
          <p:nvPr/>
        </p:nvPicPr>
        <p:blipFill>
          <a:blip r:embed="rId1"/>
          <a:stretch/>
        </p:blipFill>
        <p:spPr>
          <a:xfrm>
            <a:off x="38160" y="1809720"/>
            <a:ext cx="9067680" cy="32385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1042920" y="234936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3"/>
          <a:stretch/>
        </p:blipFill>
        <p:spPr>
          <a:xfrm>
            <a:off x="1042920" y="394812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37:56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